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3F2-1DBE-4F46-8EBF-18698BA7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4C4-EAAE-45B8-BC22-7DCCDABD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316-9065-407C-ACA2-09204772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8CB-29F9-455A-BB1A-3EAD4A42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2CB3-068F-430A-95CC-ACF876F2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DD20-B4DD-4E94-972A-7E75B75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6BB4-1199-4661-B24D-837C39F9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6D05-9C68-45AF-8275-E197C1C2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9869-2D81-48DB-B386-EC709F88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E6F7-9C23-4711-B27A-AF2118DF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F537-BE26-410D-9010-A5EB8FBC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C28-2E90-4111-8020-2A8BACB4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D279-6E83-4911-8566-1CFF472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D47F-1079-4E82-AAE2-69E24AFE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588-B2EF-4303-A478-39109DD1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2662-6CF3-4237-BD88-5BAAC42F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1331-8A33-4C87-AD4E-934F76C0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48D-9C17-4557-8EC5-52D86791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A08-3E2A-48A7-A1E2-4C75AE6B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AFF-8DCF-4563-82DF-39462E26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27E-632D-4717-A00E-26A2162E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F42-385A-473B-997D-C2E84B60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C03-31D8-42F5-83D6-A5EB3E2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E9B-9D4B-4679-958A-F275417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709-7FC0-4CA5-B9E6-2B4EF05D7B17}" type="slidenum">
              <a:rPr b="0" lang="es-ES_tradnl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CEA3-25A8-492D-B3FF-AF1DAC8CA7AE}" type="slidenum">
              <a:rPr b="0" lang="de-DE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SESIÓN “BUENAS PRÁCTICAS EN LA ENSEÑANZA BILINGÜE”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</a:rPr>
              <a:t>CEP GRANAD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</a:rPr>
              <a:t>DICIEMBRE 200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Has superado la fase administrativa/burocr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ática o aún necesitas ayuda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Conoces las actividades extraescolares realizadas por la secc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bilingüe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 profesorado de la secc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está implicado en su trabajo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Le sacas partido a los asistentes ling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üísticos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Crees que lo que haces te sirve/servir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á a ti y a tu alumnado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PINIONES PERSONA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</a:rPr>
              <a:t>Varios de los encuestados/as insistieron en la necesidad que el profesorado de las secciones biling</a:t>
            </a:r>
            <a:r>
              <a:rPr b="0" lang="es-ES_tradnl" sz="3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ües, tiene con respecto al aprendizaje en el uso de las TIC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La gran mayoría demanda formación específica en sus propios centros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Lucida Grande"/>
              </a:rPr>
              <a:t>Me interesa la formación práctica por encima de todo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S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É LO QUE ES EL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Quiero por encima de todo que me proporcionen material espec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ífico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La opin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que tienen en su centro de la sección es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Y SI ES NEGATIVA ES POR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Crees que sabes los que est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ás haciendo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Creo que lo que necesito es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Ha observado una mejor coordinac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del Equipo Educativo de la sección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9:33:28Z</dcterms:created>
  <dc:creator>Usuario de Office 2004 Test Drive</dc:creator>
  <dc:description/>
  <dc:language>en-US</dc:language>
  <cp:lastModifiedBy>Usuario de Office 2004 Test Drive</cp:lastModifiedBy>
  <dcterms:modified xsi:type="dcterms:W3CDTF">2009-01-12T20:39:17Z</dcterms:modified>
  <cp:revision>2</cp:revision>
  <dc:subject/>
  <dc:title>SESIÓN “BUENAS PRÁCTICAS EN LA ENSEÑANZA BILINGÜE”</dc:title>
</cp:coreProperties>
</file>